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396-0FE7-426B-9E58-F2FD5C54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3D1-621E-45CF-94D6-D243F9C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8F5-226D-4E36-9FE9-62A9102C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DBA-CAB8-447F-84A7-363A7445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4374-C92B-40FD-8834-48D17104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84DA-53D7-4E90-A704-113B22AE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1D8F-1F4C-4585-BAC4-0213FBDA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FD78-E617-481D-8CD8-37FED096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71ED-98C6-4D80-ACB5-04435D6E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861B-2121-4049-BF94-FCBB1FB9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7C86-A5F9-449D-98C3-5698EF22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6A1-EEBC-4D50-9D9F-8EE30AE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DDA5-62AA-4A46-BB5E-4AF8274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79A1-45B5-48BB-AE21-D00EC16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B9EB-F2BC-44BF-9FB0-05F97502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B995-3103-451B-A85D-D3C01A98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CBC-F0A4-4916-BF87-48826AC2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E7E-A63D-45F6-9AB9-E739B130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743-DC21-41B3-8205-CF55BBD2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866-7323-4EE3-818D-537F179F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EFE-AAE1-4F30-A83B-2C5166A9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977-1404-40BE-8369-8170D88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303-CA30-4DB0-BBBE-9A009C1B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C7C-BFD2-4163-94F4-F1683458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B62B-43DC-4B5E-AF3D-F9BE3F4735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449A-2918-4798-9CD1-133EE1ECC9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vs.cl/sitio/html/merc_valores/f_valores.html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a una entidad de SVS y revisa si el capital esta inmuniz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de Varianza – Covari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bilidad Op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folio Opt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7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Inversionista les entrega 10.000.000 de Pesos para que lo inviertan en la Bolsa, que acciones tomaría usted para cada acción si quiere obtener la rentabilidad opti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bjetivo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Tasa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lson Sie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str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 8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el mercado se encuentran los siguientes bono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ono A, que es un Bono Cupón Cero a un año, que se adquiere por 100 MUS y se amortiza por 110 MU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ono B, que es un Bono Cupón Explícito del 8% anual, que madura a los dos años por el nominal que es de 1.000 MUS. La periodicidad del cupón es anual y el próximo vence dentro de un año, adquiriéndose en estos momentos por un precio PB, que supone una TIR del 9%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r la TIR de un Bono C que es un Bono Cupón Cero Implícito y duración 2 año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23120"/>
            <a:ext cx="307980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 el mercado se encuentran los siguientes bonos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123120"/>
            <a:ext cx="593892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ono 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es un Bono Cupón Cero a un año, que se adquiere por 100 € y se amortiza por 110 €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212760"/>
            <a:ext cx="9144000" cy="42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ono B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es un Bono Cupón Explícito del 8% anual, que madura a los dos años por el nominal que es de 1.000 €. La periodicidad del cupón es anual y el próximo vence dentro de un año, adquiriéndose en estos momentos por un precio P</a:t>
            </a:r>
            <a:r>
              <a:rPr b="0" lang="en-US" sz="10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supone una TIR del 9%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-200160"/>
            <a:ext cx="50306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lcular la TIR de un Bono C que es un Bono Cupón Cero Implícito y duración 2 año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-2001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-2001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97720" y="453960"/>
            <a:ext cx="150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92560" y="453960"/>
            <a:ext cx="15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54280" y="45396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360" y="45396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52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68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84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06440"/>
            <a:ext cx="810252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4440"/>
            <a:ext cx="81025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97720" y="0"/>
            <a:ext cx="150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92560" y="0"/>
            <a:ext cx="15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54280" y="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360" y="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810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98400"/>
            <a:ext cx="810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0" cy="69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02520" y="0"/>
            <a:ext cx="0" cy="69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Cual es la diferencia entre la TIR, la tasa spot y la tasa forwar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Cuál Tasa necesitamo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ono 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ecio Actual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aduración 1 año con valor 1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-100 = 110 / (1+TIR)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TIR = 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566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3276720" y="3429000"/>
            <a:ext cx="358560" cy="1511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R = 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ono B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upón 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aduración 2 año con valor 10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TIR = 9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ecio Actual =  80 / (1+TIR)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1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+  1080 / (1+TIR)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= 982,41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566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3276720" y="3068640"/>
            <a:ext cx="358560" cy="1511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32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R = 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796000" y="443700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861080" y="3068640"/>
            <a:ext cx="358560" cy="1511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076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32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R = 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ono C: (Bootstripp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imer Cupón 80 a 1 año con tasa Spot = TIR (bono 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gundo Cupón 1080 a 2 años con tasa Spot 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982,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3347640" y="3500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636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1 =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796000" y="443700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104000" y="1879920"/>
            <a:ext cx="358920" cy="3024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4076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78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2 = X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Matemática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ono C: (Bootstripp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Precio del Bono C es igual a la suma de los bonos cero cup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-982,41 = 80 / (1+R1)^1 + 1080 / (1 + R2)^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2 = 8,96 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982,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3347640" y="3500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1 =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796000" y="443700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4104000" y="1879920"/>
            <a:ext cx="358920" cy="3024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4076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278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2 = X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 9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lcular el tipo forward implicito para el periodo de t=1 a t=2 años, del problema anterior. (Trabajar en compuesta)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-123120"/>
            <a:ext cx="307980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 el mercado se encuentran los siguientes bonos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-12312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-123120"/>
            <a:ext cx="593892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ono 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es un Bono Cupón Cero a un año, que se adquiere por 100 € y se amortiza por 110 €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-212760"/>
            <a:ext cx="9144000" cy="42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ono B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es un Bono Cupón Explícito del 8% anual, que madura a los dos años por el nominal que es de 1.000 €. La periodicidad del cupón es anual y el próximo vence dentro de un año, adquiriéndose en estos momentos por un precio P</a:t>
            </a:r>
            <a:r>
              <a:rPr b="0" lang="en-US" sz="10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, que supone una TIR del 9%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-200160"/>
            <a:ext cx="50306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lcular la TIR de un Bono C que es un Bono Cupón Cero Implícito y duración 2 año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-2001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-2001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97720" y="453960"/>
            <a:ext cx="150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2560" y="453960"/>
            <a:ext cx="15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54280" y="45396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60" y="45396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52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68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84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3960"/>
            <a:ext cx="1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06440"/>
            <a:ext cx="810252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4440"/>
            <a:ext cx="81025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97720" y="0"/>
            <a:ext cx="150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92560" y="0"/>
            <a:ext cx="15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54280" y="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360" y="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6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810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8400"/>
            <a:ext cx="810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0" cy="69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02520" y="0"/>
            <a:ext cx="0" cy="69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1+R2)^2=(1+R1)(1+F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pejando = 7.92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5229360"/>
            <a:ext cx="597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284720" y="487008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3347640" y="3500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1 =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96000" y="48690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4104000" y="1879920"/>
            <a:ext cx="358920" cy="3024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2781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2 = 8,9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4860720" y="3500280"/>
            <a:ext cx="358920" cy="1511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3645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12 = X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Nelsón Sieg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nemos N Bo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ocemos el Vector (yj , cj , tj) para el bono j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T jk   periodo de vencimiento anualizado del período K del bono j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nj  el número de cup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Por lo tanto el precio observado es igual a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663560" y="5950080"/>
                <a:ext cx="1170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jk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jk</m:t>
                            </m:r>
                            <m:r>
                              <m:t xml:space="preserve">)</m:t>
                            </m:r>
                          </m:lim>
                        </m:limUpp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j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limUpp>
                              <m:e>
                                <m:r>
                                  <m:t xml:space="preserve">S</m:t>
                                </m:r>
                              </m:e>
                              <m:lim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jk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jk</m:t>
                                </m:r>
                              </m:lim>
                            </m:limUpp>
                          </m:sup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61" name=""/>
          <p:cNvGraphicFramePr/>
          <p:nvPr/>
        </p:nvGraphicFramePr>
        <p:xfrm>
          <a:off x="2771640" y="3429000"/>
          <a:ext cx="40388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429000"/>
                    <a:ext cx="40388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859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oblema que se plantea resolver 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-583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79640" y="1341360"/>
          <a:ext cx="5400720" cy="13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341360"/>
                    <a:ext cx="54007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050920" y="3933720"/>
          <a:ext cx="547380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933720"/>
                    <a:ext cx="547380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lson Sieg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tasa spot según NS se ajusta de la for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55640" y="2637000"/>
          <a:ext cx="80643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8064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lson Siegel al problema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ocemos el vector (P, y, c, t) para cada Bono ( N=2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lculamos la tasa spot NS dándonos un set de parámetros (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abemos qu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0 &gt; 0; Tasa Largo Plazo y qu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be estar entre 1 y 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ada la Tasa Spot calculamos el precio de cada bon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alculamos la función RM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 Solver de Excel minimizamos la Función RMSE sujeto a las restricciones estipul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a 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e la estructura tasa de los bonos presentados en la planilla Excel. Utilizando los métodos aprendi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idio a la inver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sta pensando en subsidiar a los agricultores de la VI Región para que realicen una inversión de 5.000 M UF en nuevas tecnologí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estiman que los ingresos anuales crecerán a una tasa del 5% durante 15 años. El primer año esperan recaudar 400 M 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ostos de operación son un 25% de los 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ntregará el subsidio en 10 cuotas iguales.  De tal forma que la utilidad sea c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l subsid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 la cuota anual que el Gobierno entregará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asa de descuento es del 10% según MIDEP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1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5805360"/>
            <a:ext cx="1079280" cy="719280"/>
          </a:xfrm>
          <a:prstGeom prst="rightArrow">
            <a:avLst>
              <a:gd name="adj1" fmla="val 50000"/>
              <a:gd name="adj2" fmla="val 3751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ndial 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necesita ahorrar M$ 3.000 para ir en Julio de 2006 al Mundial de Alemani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recibe un sueldo de M$ 800 Mens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Mayo 2006 recibe M$ 960 por la devolución de Impuestos.  Los que destinará a su vi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tasa de ahorro es de 3,5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Fracción de su sueldo necesita ahorrar mensualm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2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ula quiere invertir en su Depto. las alternativas que le ofrecen distintos bancos son la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 Cual es la mejor alternativ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3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6100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58920" y="2852640"/>
          <a:ext cx="6622920" cy="2214720"/>
        </p:xfrm>
        <a:graphic>
          <a:graphicData uri="http://schemas.openxmlformats.org/drawingml/2006/table">
            <a:tbl>
              <a:tblPr/>
              <a:tblGrid>
                <a:gridCol w="2560680"/>
                <a:gridCol w="1355760"/>
                <a:gridCol w="1352520"/>
                <a:gridCol w="1353960"/>
              </a:tblGrid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z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F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Vari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s de O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3 años con cupones de MUF 100 al a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or cara de MUF 1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a de descuento 1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del B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4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5 años con cupón de 10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R es r = 12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y Duración Modific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o anterior si r baja a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5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mu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vs.cl/sitio/html/merc_valores/f_valore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6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Ministerio de Obras Publicas</cp:lastModifiedBy>
  <dcterms:modified xsi:type="dcterms:W3CDTF">2005-08-17T23:15:23Z</dcterms:modified>
  <cp:revision>26</cp:revision>
  <dc:subject/>
  <dc:title>AUXILIAR 1</dc:title>
</cp:coreProperties>
</file>